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EAF6-3DE9-48E6-A0ED-A77B4BBD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4B21-F01C-4E41-8418-EF6E38B1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A94C-57DF-4E91-9109-447FF66D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BFD6-8F26-44D1-AAC1-BC7853C7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0B50-9CC1-48CF-8F8C-80CAC47B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0F24-7057-4E4A-98E8-09FAB0F8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18EC-3B61-4B51-887A-49D7CF47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A761-9E29-4037-8BFC-DEFF861F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DE10-4321-40FD-958D-AF038843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EF24-F35F-4E24-92AF-19BAAC53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EAA6-7E81-4CF2-B70B-7D9F8695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6B82-8DA3-486B-912C-CEC941CB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8B97-EE68-4880-B73C-B4990B60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28F7-9990-4477-A576-FDDDFE22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E37B-5AA9-44FA-BF52-45C42831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0285-C58C-47AD-93CA-A8338BBD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C2B6-30D8-44FF-8CFC-95EF7770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753-B739-4E4A-B450-3672C845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108D-A6CC-42E3-8BD0-9A12690C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5193-1E7C-4712-97A9-E530F0FA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B72D-2C42-419A-A86F-40DAC690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FAA6-4055-405E-A47A-3C6DBB91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3888-A73F-4FAB-86BE-4A8182DD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1CE7-00EB-4416-88C8-09A08C6E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2B51-CC01-4C9C-8910-6AC61EBD2E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FFBD-1743-4FDB-846C-B02D98520B5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nhs.needham.k12.ma.us/cur/bio96_97/P5/estuary/estuary.html" TargetMode="External"/><Relationship Id="rId2" Type="http://schemas.openxmlformats.org/officeDocument/2006/relationships/hyperlink" Target="http://www.gma.org/katahdin/estuary.html" TargetMode="External"/><Relationship Id="rId3" Type="http://schemas.openxmlformats.org/officeDocument/2006/relationships/hyperlink" Target="http://www.onr.navy.mil/Focus/ocean/habitats/estuaries1.htm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sers.rcn.com/jkimball.ma.ultranet/BiologyPages/F/Freshwater.html" TargetMode="External"/><Relationship Id="rId2" Type="http://schemas.openxmlformats.org/officeDocument/2006/relationships/hyperlink" Target="http://www.ucmp.berkeley.edu/exhibits/biomes/freshwater.php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urriculum.calstatela.edu/courses/builders/lessons/less/biomes/tundra/tundraweb.html" TargetMode="External"/><Relationship Id="rId2" Type="http://schemas.openxmlformats.org/officeDocument/2006/relationships/hyperlink" Target="http://www.ucmp.berkeley.edu/exhibits/biomes/tundra.php" TargetMode="External"/><Relationship Id="rId3" Type="http://schemas.openxmlformats.org/officeDocument/2006/relationships/hyperlink" Target="http://www.blueplanetbiomes.org/tundra.htm" TargetMode="External"/><Relationship Id="rId4" Type="http://schemas.openxmlformats.org/officeDocument/2006/relationships/hyperlink" Target="http://www.runet.edu/~swoodwar/CLASSES/GEOG235/biomes/tundra/tundra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lueplanetbiomes.org/desert.htm" TargetMode="External"/><Relationship Id="rId2" Type="http://schemas.openxmlformats.org/officeDocument/2006/relationships/hyperlink" Target="http://www.ucmp.berkeley.edu/exhibits/biomes/deserts.php" TargetMode="External"/><Relationship Id="rId3" Type="http://schemas.openxmlformats.org/officeDocument/2006/relationships/hyperlink" Target="http://www.mbgnet.net/sets/desert/index.htm" TargetMode="External"/><Relationship Id="rId4" Type="http://schemas.openxmlformats.org/officeDocument/2006/relationships/hyperlink" Target="http://curriculum.calstatela.edu/courses/builders/lessons/less/biomes/desert/hot-desert-chain.html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lueplanetbiomes.org/rainforest.htm" TargetMode="External"/><Relationship Id="rId2" Type="http://schemas.openxmlformats.org/officeDocument/2006/relationships/hyperlink" Target="http://www.runet.edu/~swoodwar/CLASSES/GEOG235/biomes/rainforest/rainfrst.html" TargetMode="External"/><Relationship Id="rId3" Type="http://schemas.openxmlformats.org/officeDocument/2006/relationships/hyperlink" Target="http://www.cotf.edu/ete/modules/msese/earthsysflr/rforest.html" TargetMode="External"/><Relationship Id="rId4" Type="http://schemas.openxmlformats.org/officeDocument/2006/relationships/hyperlink" Target="http://curriculum.calstatela.edu/courses/builders/lessons/less/biomes/rainforest/tropi_rain/rainweb.html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planetbiomes.org/deciduous_forest.htm" TargetMode="External"/><Relationship Id="rId2" Type="http://schemas.openxmlformats.org/officeDocument/2006/relationships/hyperlink" Target="http://ths.sps.lane.edu/biomes/deciduous3/deciduous3.html" TargetMode="External"/><Relationship Id="rId3" Type="http://schemas.openxmlformats.org/officeDocument/2006/relationships/hyperlink" Target="http://curriculum.calstatela.edu/courses/builders/lessons/less/biomes/deciduous/decfor.html" TargetMode="External"/><Relationship Id="rId4" Type="http://schemas.openxmlformats.org/officeDocument/2006/relationships/hyperlink" Target="http://curriculum.calstatela.edu/courses/builders/lessons/less/biomes/deciduous/decweb.html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arietta.edu/~biol/biomes/boreal.ht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biomes/grassland/prairie.shtml" TargetMode="External"/><Relationship Id="rId2" Type="http://schemas.openxmlformats.org/officeDocument/2006/relationships/hyperlink" Target="http://www.blueplanetbiomes.org/prairie.htm" TargetMode="External"/><Relationship Id="rId3" Type="http://schemas.openxmlformats.org/officeDocument/2006/relationships/hyperlink" Target="http://www.worldbiomes.com/biomes_grassland.ht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lueplanetbiomes.org/savanna.htm" TargetMode="External"/><Relationship Id="rId2" Type="http://schemas.openxmlformats.org/officeDocument/2006/relationships/hyperlink" Target="http://www.nceas.ucsb.edu/nceas-web/kids/biomes/savanna.htm" TargetMode="External"/><Relationship Id="rId3" Type="http://schemas.openxmlformats.org/officeDocument/2006/relationships/hyperlink" Target="http://www.worldbiomes.com/biomes_grassland.htm" TargetMode="External"/><Relationship Id="rId4" Type="http://schemas.openxmlformats.org/officeDocument/2006/relationships/hyperlink" Target="http://www.enchantedlearning.com/biomes/savanna/savanna.shtml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oncampus.richmond.edu/academics/education/projects/webunits/biomes/oceans.html" TargetMode="External"/><Relationship Id="rId2" Type="http://schemas.openxmlformats.org/officeDocument/2006/relationships/hyperlink" Target="http://www.teachnet-lab.org/ps101/bglasgold/oceanintro.htm" TargetMode="External"/><Relationship Id="rId3" Type="http://schemas.openxmlformats.org/officeDocument/2006/relationships/hyperlink" Target="http://www.enchantedlearning.com/coloring/oceanlife.shtml" TargetMode="External"/><Relationship Id="rId4" Type="http://schemas.openxmlformats.org/officeDocument/2006/relationships/hyperlink" Target="http://lib.colostate.edu/wildlife/ocean_biome.html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Biome Research Link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tua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nhs.needham.k12.ma.us/cur/bio96_97/P5/estuary/estuary.html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tp://www.gma.org/katahdin/estuary.html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http://www.onr.navy.mil/Focus/ocean/habitats/estuaries1.htm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ttp://www.microbiologyprocedure.com/microbial-ecology-of-different-ecosystems/estuarine-ecosystem.html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resh Wa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users.rcn.com/jkimball.ma.ultranet/BiologyPages/F/Freshwater.html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ttp://kids.nceas.ucsb.edu/biomes/freshwater.htm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tp://www.ucmp.berkeley.edu/exhibits/biomes/freshwater.php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und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curriculum.calstatela.edu/courses/builders/lessons/less/biomes/tundra/tundraweb.ht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tp://www.ucmp.berkeley.edu/exhibits/biomes/tundra.php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http://www.blueplanetbiomes.org/tundra.htm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http://www.runet.edu/~swoodwar/CLASSES/GEOG235/biomes/tundra/tundra.html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eser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blueplanetbiomes.org/desert.ht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tp://www.ucmp.berkeley.edu/exhibits/biomes/deserts.ph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http://www.mbgnet.net/sets/desert/index.ht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http://curriculum.calstatela.edu/courses/builders/lessons/less/biomes/desert/hot-desert-chain.html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opical Rain Fores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blueplanetbiomes.org/rainforest.ht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tp://www.runet.edu/~swoodwar/CLASSES/GEOG235/biomes/rainforest/rainfrst.ht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http://www.cotf.edu/ete/modules/msese/earthsysflr/rforest.html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http://curriculum.calstatela.edu/courses/builders/lessons/less/biomes/rainforest/tropi_rain/rainweb.html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eciduous Fores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blueplanetbiomes.org/deciduous_forest.ht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tp://ths.sps.lane.edu/biomes/deciduous3/deciduous3.html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http://curriculum.calstatela.edu/courses/builders/lessons/less/biomes/deciduous/decfor.html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http://curriculum.calstatela.edu/courses/builders/lessons/less/biomes/deciduous/decweb.html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oreal Fores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marietta.edu/~biol/biomes/boreal.htm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ttp://www.runet.edu/~swoodwar/CLASSES/GEOG235/biomes/taiga/taiga.html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ttp://www.ucmp.berkeley.edu/exhibits/biomes/forests.php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ssland – Prairie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enchantedlearning.com/biomes/grassland/prairie.shtml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tp://www.blueplanetbiomes.org/prairie.htm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http://www.worldbiomes.com/biomes_grassland.htm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ss Land - Savannah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blueplanetbiomes.org/savanna.htm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tp://www.nceas.ucsb.edu/nceas-web/kids/biomes/savanna.htm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http://www.worldbiomes.com/biomes_grassland.htm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http://www.enchantedlearning.com/biomes/savanna/savanna.shtml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cea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oncampus.richmond.edu/academics/education/projects/webunits/biomes/oceans.ht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tp://www.teachnet-lab.org/ps101/bglasgold/oceanintro.htm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http://www.enchantedlearning.com/coloring/oceanlife.shtml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http://lib.colostate.edu/wildlife/ocean_biome.html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14:55:25Z</dcterms:created>
  <dc:creator>Rebecca Ellis</dc:creator>
  <dc:description/>
  <dc:language>en-US</dc:language>
  <cp:lastModifiedBy>ccps</cp:lastModifiedBy>
  <dcterms:modified xsi:type="dcterms:W3CDTF">2009-04-24T18:48:57Z</dcterms:modified>
  <cp:revision>7</cp:revision>
  <dc:subject/>
  <dc:title>Biome Research Links</dc:title>
</cp:coreProperties>
</file>